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18E-045A-4556-83E1-2080F522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14C-667D-4FDE-9B6A-C90BE9B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16A-C866-491E-89A2-E10337DF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BF6-8E01-427E-9A4D-EBF3F820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12A-29E8-487C-9E14-91F58053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D04-3B47-48E6-96DE-903E559B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9B6-5F03-4919-820C-F723CDEB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D5B-D52F-44F1-8EA8-772CE4A9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75B-D5B7-41A3-ACAE-26451A02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EE0-2CD1-46DA-BC6D-9F00DF65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8D0-5159-41A8-A033-B21A1BF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8EA-8D88-4567-B015-9880C07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036E-2187-47CF-BE48-EE8D9DD18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systems of ine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olution of a system of ine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graph a system of system of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each in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to indicate which side ought to be sha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tion that is shaded for both is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124080" y="4191120"/>
          <a:ext cx="220032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191120"/>
                    <a:ext cx="220032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-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438280" y="1523880"/>
          <a:ext cx="301788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3880"/>
                    <a:ext cx="30178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715000" y="3276720"/>
          <a:ext cx="3165480" cy="32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276720"/>
                    <a:ext cx="31654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y &lt;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y 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1/2x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x 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183200" y="1905120"/>
          <a:ext cx="39351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3200" y="1905120"/>
                    <a:ext cx="39351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ing ano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29577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21:00:00Z</dcterms:created>
  <dc:creator>nuhs</dc:creator>
  <dc:description/>
  <dc:language>en-US</dc:language>
  <cp:lastModifiedBy>nuhs</cp:lastModifiedBy>
  <dcterms:modified xsi:type="dcterms:W3CDTF">2007-10-25T19:21:40Z</dcterms:modified>
  <cp:revision>7</cp:revision>
  <dc:subject/>
  <dc:title>Algebra 2A</dc:title>
</cp:coreProperties>
</file>